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26.gif" ContentType="image/gif"/>
  <Override PartName="/ppt/media/image19.jpeg" ContentType="image/jpeg"/>
  <Override PartName="/ppt/media/image2.gif" ContentType="image/gif"/>
  <Override PartName="/ppt/media/image24.jpeg" ContentType="image/jpeg"/>
  <Override PartName="/ppt/media/image30.jpeg" ContentType="image/jpeg"/>
  <Override PartName="/ppt/media/image12.gif" ContentType="image/gif"/>
  <Override PartName="/ppt/media/image8.gif" ContentType="image/gif"/>
  <Override PartName="/ppt/media/image18.jpeg" ContentType="image/jpeg"/>
  <Override PartName="/ppt/media/image36.png" ContentType="image/png"/>
  <Override PartName="/ppt/media/image9.gif" ContentType="image/gif"/>
  <Override PartName="/ppt/media/image10.gif" ContentType="image/gif"/>
  <Override PartName="/ppt/media/image31.png" ContentType="image/png"/>
  <Override PartName="/ppt/media/image3.gif" ContentType="image/gif"/>
  <Override PartName="/ppt/media/image7.gif" ContentType="image/gif"/>
  <Override PartName="/ppt/media/image32.jpeg" ContentType="image/jpeg"/>
  <Override PartName="/ppt/media/image13.jpeg" ContentType="image/jpeg"/>
  <Override PartName="/ppt/media/image33.png" ContentType="image/png"/>
  <Override PartName="/ppt/media/image11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5.png" ContentType="image/png"/>
  <Override PartName="/ppt/media/image25.gif" ContentType="image/gif"/>
  <Override PartName="/ppt/media/image28.png" ContentType="image/png"/>
  <Override PartName="/ppt/media/image35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21.jpeg" ContentType="image/jpeg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1D3-C4E8-4C58-A4B1-7070D801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83B-CDE9-4E04-AEDA-65DA52DA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95F-27F0-4709-BC58-B9207693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2C0-81F3-4214-80E3-3B6BECFC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E98-9BBC-4FE5-B1CC-95263299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C3F-5667-4ED3-8246-82CE1D48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8B7-B40A-4EAD-892B-5130C614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13C-5185-4C3E-8139-EE5999F5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C86-463C-4253-8B5A-B804B1E8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3EA-38E4-4E74-BECC-F9A6BAEE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C6D-40AA-4B7C-9D3C-6DB908CB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F97-BECB-45F9-A4F6-CD56D5AE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9EDE-EA7A-421D-AB00-9EDD7EF548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5.gif"/><Relationship Id="rId3" Type="http://schemas.openxmlformats.org/officeDocument/2006/relationships/slide" Target="slide19.xml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609480"/>
            <a:ext cx="4267440" cy="2775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Monotype Corsiva"/>
              </a:rPr>
              <a:t>Lesson 2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5888160"/>
            <a:ext cx="2376720" cy="76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0" y="690480"/>
            <a:ext cx="71280" cy="128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1989000"/>
            <a:ext cx="4248000" cy="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71280" cy="128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5280" y="620640"/>
            <a:ext cx="4248000" cy="7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362320"/>
            <a:ext cx="5105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Dealing With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5920" y="954000"/>
            <a:ext cx="3600360" cy="4564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46720" y="2274840"/>
            <a:ext cx="3740040" cy="379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1" name=""/>
          <p:cNvSpPr/>
          <p:nvPr/>
        </p:nvSpPr>
        <p:spPr>
          <a:xfrm>
            <a:off x="4211640" y="954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uclea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69120" y="567864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库尔斯克”沉船核泄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624852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电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808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ep 3 Read the second part of the 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nd out the answers to the two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a problem in western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becoming a problem in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51460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large areas of land must be found where the rubbish can be put; second, energy is wasted producing goods which are throw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many lakes and rivers are polluted by the wastes from factories; second, as the wealth of the country increases, more waste will be produ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51280" y="1042920"/>
            <a:ext cx="3961080" cy="5130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5920" y="2079720"/>
            <a:ext cx="4095720" cy="39322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431640" y="907920"/>
            <a:ext cx="48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te 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n you imagine how much waste is thrown away in China every year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41440" y="2178000"/>
          <a:ext cx="8069040" cy="4049640"/>
        </p:xfrm>
        <a:graphic>
          <a:graphicData uri="http://schemas.openxmlformats.org/drawingml/2006/table">
            <a:tbl>
              <a:tblPr/>
              <a:tblGrid>
                <a:gridCol w="1941480"/>
                <a:gridCol w="2989080"/>
                <a:gridCol w="31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x 22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Pl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7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e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4 b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o.63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1.05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The paper from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84 m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528200" y="465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16640" y="324972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5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3733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8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27720" y="42670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3.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4800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27720" y="533412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,8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stening to the tape and choose the best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 From Paragraph 3 we can see that the best thing to do when throwing waste into the sea i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505320"/>
            <a:ext cx="73915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5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19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40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s far away as possible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" descr=""/>
          <p:cNvPicPr/>
          <p:nvPr/>
        </p:nvPicPr>
        <p:blipFill>
          <a:blip r:embed="rId1"/>
          <a:stretch/>
        </p:blipFill>
        <p:spPr>
          <a:xfrm>
            <a:off x="7238880" y="2590920"/>
            <a:ext cx="1040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914400"/>
            <a:ext cx="84582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 People throw dangerous waste into the deep sea NOT because of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life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movement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escape of the dangerous chemicals from their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safety of fish at the upper level of the oc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" descr=""/>
          <p:cNvPicPr/>
          <p:nvPr/>
        </p:nvPicPr>
        <p:blipFill>
          <a:blip r:embed="rId1"/>
          <a:stretch/>
        </p:blipFill>
        <p:spPr>
          <a:xfrm>
            <a:off x="7848720" y="137160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523880"/>
            <a:ext cx="80773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 Which of the problems caused by city rubbish is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water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s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waste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D" descr=""/>
          <p:cNvPicPr/>
          <p:nvPr/>
        </p:nvPicPr>
        <p:blipFill>
          <a:blip r:embed="rId1"/>
          <a:stretch/>
        </p:blipFill>
        <p:spPr>
          <a:xfrm>
            <a:off x="6861240" y="2514600"/>
            <a:ext cx="1112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533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ich of the following statements would you agree to about city rubbish in China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981080"/>
            <a:ext cx="7696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is not a big problem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g cities in China don’t have such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problem is going to be one of the biggest problems in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 rubbish is already one of the biggest environmental problems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D" descr=""/>
          <p:cNvPicPr/>
          <p:nvPr/>
        </p:nvPicPr>
        <p:blipFill>
          <a:blip r:embed="rId1"/>
          <a:stretch/>
        </p:blipFill>
        <p:spPr>
          <a:xfrm>
            <a:off x="7848720" y="175248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533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. What conclusion may you come to from the last paragra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76520"/>
            <a:ext cx="82296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we would be in great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China had as much rubbish as Britain, people’s life would be greatly endangered by rubbish mount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many big cities in China would likely be surrounded by or buried in rubb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D" descr=""/>
          <p:cNvPicPr/>
          <p:nvPr/>
        </p:nvPicPr>
        <p:blipFill>
          <a:blip r:embed="rId1"/>
          <a:stretch/>
        </p:blipFill>
        <p:spPr>
          <a:xfrm>
            <a:off x="8075520" y="1066680"/>
            <a:ext cx="1068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Which of the following is the right meaning of “treat”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828800"/>
            <a:ext cx="7696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f you treat someone in a particular way, you behave that way towards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reat something in a particular way is to deal with it tha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o give someone a treat is to buy something special for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doctor treats a patient, he/she tries to make the patient well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993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81280" y="3124080"/>
            <a:ext cx="3276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(rubb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048120"/>
            <a:ext cx="22096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202440"/>
            <a:ext cx="17524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6172200"/>
            <a:ext cx="16761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447920"/>
            <a:ext cx="9144000" cy="50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shall we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man is hard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is the best way of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thie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book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s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problems of 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ade a speech at the conference,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lk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)I don't know ________to deal with such a problem.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)I don't know ________to do with such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76320"/>
            <a:ext cx="76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nguage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 deal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6524640"/>
            <a:ext cx="8961480" cy="33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90920" y="4876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5410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0000" y="981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17400"/>
            <a:ext cx="8915400" cy="77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w to get rid of waste is a great probl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or the world today.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疑问词 ＋ 不定式”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n to start for Shangha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not yet dec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re to store the was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still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he didn’t know what to do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et rid of,  deal with,  do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get rid of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表示“处理”，侧重“消灭；摆脱或清除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eal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和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o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侧重“处理”的手段、方法或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533520"/>
            <a:ext cx="8642160" cy="68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 get rid of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排除；摆脱；处理掉，去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to throw away something you do not want or use any mo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 your worries and have a good re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can I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ain in the le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shall have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se old pictur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took me a month to get rid of my c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d to get rid of my assistant because he was alway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094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 many countries with sea coasts, human wast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iped directly into the sea without being tre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词短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th sea coast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定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带有”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具有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意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国是一个历史悠久的大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ina is a large country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wit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a long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380880"/>
            <a:ext cx="914400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 without + -i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被动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left the classroom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permit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alked away from home on a dark night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s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was lucky; he escaped from the burning ho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injur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 you think we’ll get a seat without having to que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quirrel was lucky that it just missed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catching                  B.to be ca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being caught           D.to c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6019920"/>
            <a:ext cx="380880" cy="533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280" y="380880"/>
            <a:ext cx="909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 I heard the terrible sound of ____ last nigh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door's shut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the door being sh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the door's being sh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the door being sh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038480"/>
            <a:ext cx="9144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 break up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驱散；打碎，拆散；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hip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as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on the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ntences ca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e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nto clauses, and clauses into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76720"/>
            <a:ext cx="533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80880"/>
            <a:ext cx="9144000" cy="68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break up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驱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catte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“打碎、拆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eparate or become separated into parts by break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im started to break the ice up on the frozen l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war broke up a lot of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old car was broken up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The old car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ere broken dow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olice came an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roke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3. break 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) stop working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坏了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e are sorry to arrive late, but the car broke dow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B) change chemically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fter many years, rocks are broken down into dir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) to become mentally or physically ill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精神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身体崩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If Tim carries on working like this, he'll break down sooner or lat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he broke down after her husband died in an accident</a:t>
            </a: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9144000" cy="64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. stop sb. (from) doing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event / stop … (from) doing sth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= keep …from doing s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We all tried to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to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im (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smoking in bed, but he would still do i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otect sb/sth from /against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The city's defenses were strong enough to protect it against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8. be against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违反，违背；反对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Lily married John. It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as 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er mother’s wis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the decision or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i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333360"/>
            <a:ext cx="86421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9. depend on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靠 … 决定；取决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The price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the qual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Your success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your eff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828800" y="914400"/>
            <a:ext cx="5257800" cy="3886200"/>
            <a:chOff x="1828800" y="914400"/>
            <a:chExt cx="5257800" cy="3886200"/>
          </a:xfrm>
        </p:grpSpPr>
        <p:sp>
          <p:nvSpPr>
            <p:cNvPr id="56" name=""/>
            <p:cNvSpPr/>
            <p:nvPr/>
          </p:nvSpPr>
          <p:spPr>
            <a:xfrm>
              <a:off x="2199960" y="914400"/>
              <a:ext cx="4644360" cy="388620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5040" y="914400"/>
              <a:ext cx="5572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22000" y="957600"/>
              <a:ext cx="130032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18280" y="957600"/>
              <a:ext cx="190440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22680" y="914400"/>
              <a:ext cx="60336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21960" y="914400"/>
              <a:ext cx="12538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22680" y="957600"/>
              <a:ext cx="1857600" cy="37998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93520" y="1086840"/>
              <a:ext cx="1811160" cy="2156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0480" y="1518840"/>
              <a:ext cx="33440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86080" y="208008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386080" y="333144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850480" y="3893040"/>
              <a:ext cx="32972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547080" y="4411080"/>
              <a:ext cx="1904040" cy="1724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50480" y="2296080"/>
              <a:ext cx="1486080" cy="60444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54520" y="2339280"/>
              <a:ext cx="1439640" cy="6044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686400" y="3331440"/>
              <a:ext cx="1625400" cy="77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185动态图标" descr=""/>
            <p:cNvPicPr/>
            <p:nvPr/>
          </p:nvPicPr>
          <p:blipFill>
            <a:blip r:embed="rId1"/>
            <a:stretch/>
          </p:blipFill>
          <p:spPr>
            <a:xfrm>
              <a:off x="1828800" y="3375720"/>
              <a:ext cx="75276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185动态图标" descr=""/>
            <p:cNvPicPr/>
            <p:nvPr/>
          </p:nvPicPr>
          <p:blipFill>
            <a:blip r:embed="rId2"/>
            <a:stretch/>
          </p:blipFill>
          <p:spPr>
            <a:xfrm>
              <a:off x="6356160" y="3850560"/>
              <a:ext cx="730440" cy="77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287400" y="1346040"/>
              <a:ext cx="7527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187动态图标" descr=""/>
            <p:cNvPicPr/>
            <p:nvPr/>
          </p:nvPicPr>
          <p:blipFill>
            <a:blip r:embed="rId4"/>
            <a:stretch/>
          </p:blipFill>
          <p:spPr>
            <a:xfrm>
              <a:off x="2060640" y="1518840"/>
              <a:ext cx="5223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1219320" y="54864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he earth used to be happ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90520"/>
            <a:ext cx="9144000" cy="72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. seek to do sth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) to try; to make an attem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【较正式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was no 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ing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make peace between the two countr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ought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change her mind but she ref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另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eek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) look for something that you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st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wealth; all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 shoul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dvice from your teacher on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ought an answ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the question, but couldn't find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0" y="462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76040" y="1341000"/>
            <a:ext cx="52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It + b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段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+ befor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句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过了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才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3598920" y="2850480"/>
            <a:ext cx="1126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a long time before I got to slee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not long before they left their village to 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eir fortune in the sou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0120" y="2328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看下面的例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284640"/>
            <a:ext cx="352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005360"/>
            <a:ext cx="309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34480" y="40759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久就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62120" y="321228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很久才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be many years before the chemicals start to escape from the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+ be / take +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时间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+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过了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以后，才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a long time before I felt asleep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take several weeks before everything returns to norm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句型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is not long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不久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就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not long before they finished their task ahead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5446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e active in (doing) sth:  take an active part in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's very active in local poli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's been active in raising money for the new church 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45684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ultiply the total for Britain by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英国的总量乘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240" y="1523160"/>
            <a:ext cx="50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ultiply A by B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乘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2400" y="228600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ultiplied by B is / equals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6600" y="4037760"/>
            <a:ext cx="66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ve multiplied by six is / equals thi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720" y="3200400"/>
            <a:ext cx="35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翻译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于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4765680"/>
            <a:ext cx="7488360" cy="20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6200" y="486108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乘以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7360" y="5702400"/>
            <a:ext cx="18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相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42520" y="4807080"/>
            <a:ext cx="33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by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6360" y="566244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and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aling with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Waste must be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 so that it does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ife.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When this river fin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a,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ocea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Human wast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 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It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law to throw any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sea_______5 kilometers of land. (paragraph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86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1523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23162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ll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733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4525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ing  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5943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8088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The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waste, protect the earth, 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life in them. (paragraph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throw-away soci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y problems. 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is is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 for large cities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China,rubbish,such as_____ plastic bag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xes known as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lution”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11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6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962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7242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5973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14400" y="3048120"/>
            <a:ext cx="487692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经典空叠圆简"/>
                <a:ea typeface="经典空叠圆简"/>
              </a:rPr>
              <a:t>Lesson 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324480" y="6172200"/>
            <a:ext cx="243864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ycle,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3824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76520" y="2666880"/>
            <a:ext cx="16002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2895480"/>
            <a:ext cx="25146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over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6049800"/>
            <a:ext cx="20574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ubber ty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019920"/>
            <a:ext cx="11430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057400" y="1066680"/>
            <a:ext cx="5486040" cy="3733920"/>
            <a:chOff x="2057400" y="1066680"/>
            <a:chExt cx="5486040" cy="3733920"/>
          </a:xfrm>
        </p:grpSpPr>
        <p:sp>
          <p:nvSpPr>
            <p:cNvPr id="80" name=""/>
            <p:cNvSpPr/>
            <p:nvPr/>
          </p:nvSpPr>
          <p:spPr>
            <a:xfrm>
              <a:off x="2204280" y="1066680"/>
              <a:ext cx="4898520" cy="373392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65840" y="1066680"/>
              <a:ext cx="58752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82120" y="1108080"/>
              <a:ext cx="137160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4920" y="1108080"/>
              <a:ext cx="200844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653720" y="1066680"/>
              <a:ext cx="6364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653000" y="1066680"/>
              <a:ext cx="13222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653720" y="1108080"/>
              <a:ext cx="1959120" cy="365076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73800" y="1232640"/>
              <a:ext cx="1910160" cy="2073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0080" y="1647360"/>
              <a:ext cx="352692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00120" y="218664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400120" y="338976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890080" y="3887640"/>
              <a:ext cx="3526920" cy="33192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624840" y="4426560"/>
              <a:ext cx="2008080" cy="1659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39040" y="2062080"/>
              <a:ext cx="1567440" cy="62208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849560" y="2020680"/>
              <a:ext cx="1518480" cy="622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22760" y="3763440"/>
              <a:ext cx="1763280" cy="746640"/>
            </a:xfrm>
            <a:prstGeom prst="blockArc">
              <a:avLst>
                <a:gd name="adj1" fmla="val 11143480"/>
                <a:gd name="adj2" fmla="val 21256520"/>
                <a:gd name="adj3" fmla="val 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73人物" descr=""/>
            <p:cNvPicPr/>
            <p:nvPr/>
          </p:nvPicPr>
          <p:blipFill>
            <a:blip r:embed="rId1"/>
            <a:stretch/>
          </p:blipFill>
          <p:spPr>
            <a:xfrm>
              <a:off x="2057400" y="4136760"/>
              <a:ext cx="6368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26动态图标" descr=""/>
            <p:cNvPicPr/>
            <p:nvPr/>
          </p:nvPicPr>
          <p:blipFill>
            <a:blip r:embed="rId2"/>
            <a:stretch/>
          </p:blipFill>
          <p:spPr>
            <a:xfrm>
              <a:off x="2057400" y="3763440"/>
              <a:ext cx="53892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858000" y="3597480"/>
              <a:ext cx="68544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85动态图标" descr=""/>
            <p:cNvPicPr/>
            <p:nvPr/>
          </p:nvPicPr>
          <p:blipFill>
            <a:blip r:embed="rId4"/>
            <a:stretch/>
          </p:blipFill>
          <p:spPr>
            <a:xfrm>
              <a:off x="6514920" y="1440000"/>
              <a:ext cx="1028520" cy="87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8088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e is sad 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25780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 is she sad 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304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ading compreh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0666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. Which one suits the meaning of “sort” in Paragraph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1337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If you sort things, you separate them into different classes, groups, or places, so that you can arrange them in a useful or sensible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3581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A sort is a group or class of persons or things which are alike in som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4648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You describe someone as a particular sort when you are describing their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5715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If you are out of sorts, you feel slightly un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94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. When talking about recycling, what is NOT mentio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16002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newspapers    B. glass and me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Leftover food       D. old furniture an clot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D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39680" cy="914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. In which of the following cities are you likely to see separate-collection of rubb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4956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York.            B. Par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Beijing                D. 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D" descr=""/>
          <p:cNvPicPr/>
          <p:nvPr/>
        </p:nvPicPr>
        <p:blipFill>
          <a:blip r:embed="rId2"/>
          <a:stretch/>
        </p:blipFill>
        <p:spPr>
          <a:xfrm>
            <a:off x="7162920" y="41148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838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. According to the last paragraph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1752480"/>
            <a:ext cx="8001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the bigg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a smaller country certainly makes less rubb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the rich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China makes little rubbish because everything here is used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C" descr=""/>
          <p:cNvPicPr/>
          <p:nvPr/>
        </p:nvPicPr>
        <p:blipFill>
          <a:blip r:embed="rId1"/>
          <a:stretch/>
        </p:blipFill>
        <p:spPr>
          <a:xfrm>
            <a:off x="6400800" y="510552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85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5. Which of the following have you ever tried to do to help reduce rubbish/was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05120"/>
            <a:ext cx="7696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take more food than necessary so as not to have lefto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on both sides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old books and newspapers to  have them recycled in fac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D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49160" y="95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0800" y="45720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mountain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6440" y="106668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2904"/>
                </a:solidFill>
                <a:latin typeface="Arial"/>
              </a:rPr>
              <a:t>= a mountai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41680" y="3808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山的，大量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302200" y="1744560"/>
            <a:ext cx="109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have a mountain of work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untains of clothes need washing and ir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10040" y="2176560"/>
            <a:ext cx="86364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6040" y="2610000"/>
            <a:ext cx="1224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3733920"/>
            <a:ext cx="5688000" cy="144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2904"/>
                </a:solidFill>
                <a:latin typeface="Arial"/>
              </a:rPr>
              <a:t>其后可接可数或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ep III. Fill in blanks. L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European countries are now making an act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erials more than they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Materials are collecte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gai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many cities in Europe rubbish is collect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However, n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y can sav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the last paragrap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1447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1447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1447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2666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320" y="48308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562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6248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4762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t one time                                make an effor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op sb/sth (from)doing            shut down---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gainst  (Opp: be for)          r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pend on                                  left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ght against                    at birth—from the time when one was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vironment                              by birth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生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382896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 will be many yea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start to escape from the contai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unlikely tha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will be carried upwards into the water where fish ar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waste may be thrown the sea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ing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nature of the materials.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which depends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709560"/>
            <a:ext cx="9144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efen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卫”、“防御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应用范围很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象可以是具体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可以是抽象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行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或文字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辩护或答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defend oneself against enemy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防御敌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uard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注意观察、戒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受可能的攻击或伤害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uard a coas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守卫海岸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rotect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遭受危险或伤害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rotect the children from h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护儿童免受伤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0464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more than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更多的；更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want to have a good rest more than anything e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现在最想的是好好休息一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her than---except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了…，除…之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's nobody here other than m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我这里没别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ou can't get there other than by swimm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只能靠游泳游到那边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rather than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别的而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glish is taught in our school rather than Russ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学校教的是英语而不是俄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9204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am was built in time to ______the villagers from the flood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fend     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tect    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end    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or Clarissa wanted nothing ______ to have someone to talk to .   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ather than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re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tter than                       D .other tha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11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14600" y="25146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0" name="011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8680" y="51814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9143280" cy="6629040"/>
            <a:chOff x="0" y="0"/>
            <a:chExt cx="9143280" cy="6629040"/>
          </a:xfrm>
        </p:grpSpPr>
        <p:pic>
          <p:nvPicPr>
            <p:cNvPr id="106" name="1-25" descr=""/>
            <p:cNvPicPr/>
            <p:nvPr/>
          </p:nvPicPr>
          <p:blipFill>
            <a:blip r:embed="rId1"/>
            <a:stretch/>
          </p:blipFill>
          <p:spPr>
            <a:xfrm>
              <a:off x="4733280" y="3560400"/>
              <a:ext cx="441000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banner02" descr=""/>
            <p:cNvPicPr/>
            <p:nvPr/>
          </p:nvPicPr>
          <p:blipFill>
            <a:blip r:embed="rId2">
              <a:lum bright="10000"/>
            </a:blip>
            <a:stretch/>
          </p:blipFill>
          <p:spPr>
            <a:xfrm>
              <a:off x="0" y="0"/>
              <a:ext cx="473328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wrkl" descr=""/>
            <p:cNvPicPr/>
            <p:nvPr/>
          </p:nvPicPr>
          <p:blipFill>
            <a:blip r:embed="rId3"/>
            <a:stretch/>
          </p:blipFill>
          <p:spPr>
            <a:xfrm>
              <a:off x="4733280" y="0"/>
              <a:ext cx="441000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78" descr=""/>
            <p:cNvPicPr/>
            <p:nvPr/>
          </p:nvPicPr>
          <p:blipFill>
            <a:blip r:embed="rId4"/>
            <a:stretch/>
          </p:blipFill>
          <p:spPr>
            <a:xfrm>
              <a:off x="0" y="3560400"/>
              <a:ext cx="473328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280" descr=""/>
            <p:cNvPicPr/>
            <p:nvPr/>
          </p:nvPicPr>
          <p:blipFill>
            <a:blip r:embed="rId5"/>
            <a:stretch/>
          </p:blipFill>
          <p:spPr>
            <a:xfrm>
              <a:off x="215280" y="4296960"/>
              <a:ext cx="1758600" cy="15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ao" descr=""/>
            <p:cNvPicPr/>
            <p:nvPr/>
          </p:nvPicPr>
          <p:blipFill>
            <a:blip r:embed="rId6"/>
            <a:stretch/>
          </p:blipFill>
          <p:spPr>
            <a:xfrm>
              <a:off x="3872520" y="3805560"/>
              <a:ext cx="538200" cy="19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270" descr=""/>
            <p:cNvPicPr/>
            <p:nvPr/>
          </p:nvPicPr>
          <p:blipFill>
            <a:blip r:embed="rId7"/>
            <a:stretch/>
          </p:blipFill>
          <p:spPr>
            <a:xfrm>
              <a:off x="1936080" y="527868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270" descr=""/>
            <p:cNvPicPr/>
            <p:nvPr/>
          </p:nvPicPr>
          <p:blipFill>
            <a:blip r:embed="rId8"/>
            <a:stretch/>
          </p:blipFill>
          <p:spPr>
            <a:xfrm>
              <a:off x="2259000" y="441936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260" descr=""/>
            <p:cNvPicPr/>
            <p:nvPr/>
          </p:nvPicPr>
          <p:blipFill>
            <a:blip r:embed="rId9"/>
            <a:stretch/>
          </p:blipFill>
          <p:spPr>
            <a:xfrm>
              <a:off x="1506240" y="3560400"/>
              <a:ext cx="860400" cy="12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45720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Frederick once stated, “French science does not want to have anything to do with atomic research _____for  peace.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ore than 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ather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other than                      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ss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 ______was done to cro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s               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urt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                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u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0118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3" name="0118" descr=""/>
          <p:cNvPicPr/>
          <p:nvPr/>
        </p:nvPicPr>
        <p:blipFill>
          <a:blip r:embed="rId2"/>
          <a:stretch/>
        </p:blipFill>
        <p:spPr>
          <a:xfrm>
            <a:off x="685800" y="64771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182520"/>
            <a:ext cx="914400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sent invitations to 80 people, ______have replied.    </a:t>
            </a: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         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 of these       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of these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                    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must remember______ John that the garden needs _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watering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 ; water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to water 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; to wa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0118" descr=""/>
          <p:cNvPicPr/>
          <p:nvPr/>
        </p:nvPicPr>
        <p:blipFill>
          <a:blip r:embed="rId1"/>
          <a:stretch/>
        </p:blipFill>
        <p:spPr>
          <a:xfrm>
            <a:off x="247680" y="2590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86" name="0118" descr=""/>
          <p:cNvPicPr/>
          <p:nvPr/>
        </p:nvPicPr>
        <p:blipFill>
          <a:blip r:embed="rId2"/>
          <a:stretch/>
        </p:blipFill>
        <p:spPr>
          <a:xfrm>
            <a:off x="171360" y="51055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6320" y="30492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.College students are free to study______ them.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that interests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which interests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eople travelling long distances frequently have to decide ______they would prefer to go by land, sea or air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       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      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y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0118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9" name="0118" descr=""/>
          <p:cNvPicPr/>
          <p:nvPr/>
        </p:nvPicPr>
        <p:blipFill>
          <a:blip r:embed="rId2"/>
          <a:stretch/>
        </p:blipFill>
        <p:spPr>
          <a:xfrm>
            <a:off x="6934320" y="632448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320" y="39204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ith five hundred children ______ round the table, the food disappeared ______. 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 ; at no time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in no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at no time  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; in n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2. Give this to ______ you think can do th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ell .      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                       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ever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mever                  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0118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2" name="0118" descr=""/>
          <p:cNvPicPr/>
          <p:nvPr/>
        </p:nvPicPr>
        <p:blipFill>
          <a:blip r:embed="rId2"/>
          <a:stretch/>
        </p:blipFill>
        <p:spPr>
          <a:xfrm>
            <a:off x="5181480" y="54100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o get an education, ______.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e must work hard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work hard is necess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required to work hard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king hard is nee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 would have come sooner, but I ______ that you were waiting .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idn't know 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dn't known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n't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0118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5" name="0118" descr=""/>
          <p:cNvPicPr/>
          <p:nvPr/>
        </p:nvPicPr>
        <p:blipFill>
          <a:blip r:embed="rId2"/>
          <a:stretch/>
        </p:blipFill>
        <p:spPr>
          <a:xfrm>
            <a:off x="685800" y="57913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6320" y="619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619200"/>
            <a:ext cx="9372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boy who was cleaning the shoes in the street said to   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young man passed b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t me clean your boots. It'll     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end you only a penny.”But the young man refused. Then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3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boy told him that he will clean his boots for nothing.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    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young man agreed, and soon a boot shining brightly.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n he put the other boot on the box, and the boy refused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n it unless he was paid two pence for his work. The      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7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oung man refused to pay for anything and went away. But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8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well-cleaned boot made the dirty one so bad that he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9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ld walk on. He turned back and gave the boy two pence.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619200"/>
            <a:ext cx="38088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77320" y="61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61920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60956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1152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214308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168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275256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53280" y="2295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952880" y="29808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98116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77320" y="2752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38196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3362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6320" y="412380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320" y="40482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3819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4581360"/>
            <a:ext cx="3808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4429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153280" y="4505400"/>
            <a:ext cx="38124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77320" y="458136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．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62120" y="580032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80068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5495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4788000" cy="3789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771640" y="1484280"/>
            <a:ext cx="49960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</a:rPr>
              <a:t>Good-bye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2985840" cy="38098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3440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Step  1 Discussion</a:t>
            </a:r>
            <a:br>
              <a:rPr sz="5400"/>
            </a:b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at is thrown away as waste at your home?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4076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Step 2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the answers to the two questions in 6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nd out the topic sentence of Part 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at types of waste are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8927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514600"/>
            <a:ext cx="91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w to get rid of waste is a great problem for the world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What is done to waste nowada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s been done for environmental prot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International organizations: Friends of the Earth, Green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special laws have been made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80" y="728640"/>
            <a:ext cx="3516120" cy="4861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27720" y="1133640"/>
            <a:ext cx="4005000" cy="4095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27" name=""/>
          <p:cNvSpPr/>
          <p:nvPr/>
        </p:nvSpPr>
        <p:spPr>
          <a:xfrm>
            <a:off x="657360" y="5634000"/>
            <a:ext cx="40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7360" y="563400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Wate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14:48:31Z</dcterms:created>
  <dc:creator>Benny Lee</dc:creator>
  <dc:description/>
  <dc:language>en-US</dc:language>
  <cp:lastModifiedBy>w</cp:lastModifiedBy>
  <dcterms:modified xsi:type="dcterms:W3CDTF">2004-09-21T14:13:36Z</dcterms:modified>
  <cp:revision>118</cp:revision>
  <dc:subject/>
  <dc:title>PowerPoint 演示文稿</dc:title>
</cp:coreProperties>
</file>